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CB9-D043-4FF0-8786-8EA8AD291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00D-98C1-4FDD-B4FC-7F31466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C33-2C8E-48B3-A979-44939F28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207-D4E6-45A1-9CC0-A2E6CDE7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5ED1-CB04-4F02-BA6C-695D8716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FC32-2378-46F0-8027-8451C56C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0CC-A284-4386-83C7-7CAA5766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E0C8-CC02-44F8-9464-D27F6E9B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B03-8E18-4AD5-89D8-C88FA3B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683-D8B5-4D44-B2EE-439F573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3C5-7F5B-4D3C-818A-34F93805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F10-CA85-4DC7-9B5E-8DEC6B8A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B2F1-4A7C-474E-A212-3CE997678FF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425CF182-C579-4218-B618-19CFCAB6CFD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16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s a beginni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7.2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(the one)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rning who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6.46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ζῳοποιει αὐτους οὑς θελε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4A677DA-CBCF-4416-B8DE-91CA05F5A89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ohn 6.2: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om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9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009DC110-B0B6-4202-B7D4-F2F5561B5AC5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6.6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7.2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A4B46F9E-BDF2-442E-907D-BD5AF452121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t is difficult to find any logical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Wh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re question words, they will normally come first word in the sentence which is rare when they occur simply the negative (and there will also be a question mar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uke 4.2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they were saying, 'Isn't this Joseph's son?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[to kill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DCC41A58-BCA9-4F9C-B47C-59F7F18AFEF9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CAE783FF-F962-4D86-AE0E-40735753C72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am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e sai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at he was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erbs of saying or thin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13077E95-3DFE-472A-8F3D-54AB17A4A4F4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wor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thus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Participle of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pening inverted comma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Mark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−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he used to proclaim (saying), 'he is coming …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oth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th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λεγ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6F8A2F78-C295-4D10-82C2-0003BBF2618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θεωρω ὁτι προφητης εἶ σ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different meaning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6D5D5D0-DFDF-481F-B4DB-6BB14007A78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0BACE5B-570E-487F-826B-8D8028371EF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how long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during'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geni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ime 'at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For two day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gen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During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o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B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E8192590-AC23-4380-B87F-B563E7586990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 The lord s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messeng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E651FC15-F6EF-4085-80D5-B70355FC2CF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5EB73692-2DC9-421C-91ED-1C798F46365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at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ntence =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'On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F4BE83BC-F730-4953-81BF-B5B2AABE5E0E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ic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he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1. They are keeping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2. He teache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FC898C31-F032-4CDC-A536-06018CACE6E3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Arial"/>
              </a:rPr>
              <a:t>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6BBCF626-244B-4CEA-879C-C21E3B3B4CC6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Numb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Gend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Cas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C581D978-FEE6-4170-B5F8-93C18DCDE54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C5F24601-E8A6-425F-8961-5B4A6753B8E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4CA7A680-132C-4279-9060-856E41ACB1C2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10:Grammar </a:t>
            </a:r>
            <a:fld id="{D456BB81-2D2F-482B-AFC8-1E0B45441861}" type="slidenum"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  <a:ea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  <a:ea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to 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8-09-10T20:36:37Z</dcterms:modified>
  <cp:revision>36</cp:revision>
  <dc:subject/>
  <dc:title>Slide 1</dc:title>
</cp:coreProperties>
</file>